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6A8-72AC-4B5B-8040-F4E67637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E9D-3246-494B-B9EC-4B0BBB48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D17-8F80-4721-B4CB-F1A9CCEA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39A-85B8-4A56-8E2A-38A62887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6A9-E2A7-46EB-9A19-7F31DB97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EB5-2E3A-4C26-8C16-41264A4B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560-A95E-4F33-B5D5-D8EB6947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D92-8383-422C-BA59-68F76018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D70-F8F8-4471-99C2-26D1B15D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ADAA-FA50-4C96-A54E-B0B37679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1B6-F783-4387-B97E-E7DD268C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8D6-D8C7-4FAA-8F69-022F0260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7943-A8BF-4C0E-99DE-B33B73C79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terms for B cell in Cel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ly divided into immature and mature sub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us term ‘B cell’ is the parent term for all types of B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cell considered a distinct cell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cell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: CL:0000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B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n immunoglobulin complex." [GOC:add, ISBN:07817351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ct_synonym: "B lymphocyte"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ct_synonym: "B-cell"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ct_synonym: "B-lymphocyte"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lationship: develops_from CL:0000826 ! pro-B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6068880" cy="6369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cel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pro-B cell and late pro-B cells, and pre-pro B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of pre B cell and transitional stage B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B cell sub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34:07Z</dcterms:created>
  <dc:creator>Alexander Diehl</dc:creator>
  <dc:description/>
  <dc:language>en-US</dc:language>
  <cp:lastModifiedBy>Alexander Diehl</cp:lastModifiedBy>
  <dcterms:modified xsi:type="dcterms:W3CDTF">2008-05-13T01:20:43Z</dcterms:modified>
  <cp:revision>11</cp:revision>
  <dc:subject/>
  <dc:title>The Cell Ontology</dc:title>
</cp:coreProperties>
</file>